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993-968D-45D5-91B9-88C15EC9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08C-B2D0-450F-A9D3-20E4C66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12F-5CC5-4B67-882D-2B161D6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0C5-0B04-4B11-A9B1-E78B227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42A-4533-439D-A5E6-EA7B366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6B-2C43-402F-9954-B2B643E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4B3-2BE4-40B4-A357-1C4FABA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BB1-9C6C-4619-A75C-1E529BB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2D6-2B00-4C13-A4F6-91711E1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2ED-8158-4C68-8A67-E3D09E7A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977-C90C-4BA2-8D5B-51EB318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AB6-72D5-4507-A98A-89B35BC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5E27-91A6-465D-BD72-FE3F52FD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Bradley Hand ITC"/>
              </a:rPr>
              <a:t>Anne 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Bradley Hand ITC"/>
              </a:rPr>
              <a:t>By: Morgan Malloy &amp; Katie W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54772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952880"/>
            <a:ext cx="259056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 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nosleinad6.files.wordpress.com/2009/09/anne-frank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ackground Inform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 : 1929 in Frankfurt, Ger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: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: Anneliese Marie Fra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 : Typ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Famil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: Edith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: Otto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r: Margot Frank ; Age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was 4 years old when her father decided Germany was not sa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to 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 managed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800440" cy="294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5943600"/>
            <a:ext cx="2667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nk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arjunpuri.files.wordpress.com/2009/06/the-frank-familymargot-otto-anne-and-edith-frank-on-merwedeplein-in-amsterdam-1941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Anne Frank: The Diary of a Young Gir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e’s thirteenth birthday, Anne received a cloth-covered diary.  She recorded her activities in letter form to her imaginary friend named “Kitty”.  Till today, her diary is known to be a very powerful source of information still used tod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73988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6216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Frank’s D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7120"/>
            <a:ext cx="26668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2.api.ning.com/files/KcKUVXX4lJmVhl-gvRN4j6L1-w6PB7gUbnsxNrwnOPWlo6kkHn15SUhTAD9WZeK7gAprXEFN6Sa3Vzr3znV0q51NlHDBWpg6/DiaryofAnneFrank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ibliograph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rank, Anne (1929–1945)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omen in World History: A Biographical Encyclo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Ed. Anne Commire. Vol. 5. Detroit: Yorkin Publications, 2002. 724-731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e Virtual Reference Libr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Gale. High School. 4 Dec. 2009 &lt;http://go.galegroup.com/ps/start.do?p=GVRL&amp;u=s0003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ne Frank: The Diary of a Young Girl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fiction Classics for Students: Presenting Analysis, Context, and Criticism on Nonfiction Wor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Ed. David M. Galens, Jennifer Smith, and Elizabeth Thomason. Detroit: Gale, 2001. 1-34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e Virtual Reference Libr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Gale. High School. 4 Dec. 2009 &lt;http://go.galegroup.com/ps/start.do?p=GVRL&amp;u=s0003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8:56Z</dcterms:created>
  <dc:creator>11143</dc:creator>
  <dc:description/>
  <dc:language>en-US</dc:language>
  <cp:lastModifiedBy>11143</cp:lastModifiedBy>
  <dcterms:modified xsi:type="dcterms:W3CDTF">2010-01-06T15:27:43Z</dcterms:modified>
  <cp:revision>5</cp:revision>
  <dc:subject/>
  <dc:title>Anne Frank</dc:title>
</cp:coreProperties>
</file>